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uction.wav" ContentType="audio/x-wav"/>
  <Override PartName="/ppt/media/chimes.wav" ContentType="audio/x-wav"/>
  <Override PartName="/ppt/media/laser.wav" ContentType="audio/x-wav"/>
  <Override PartName="/ppt/media/drumroll.wav" ContentType="audio/x-wav"/>
  <Override PartName="/ppt/media/arrow.wav" ContentType="audio/x-wav"/>
  <Override PartName="/ppt/media/applause.wav" ContentType="audio/x-wav"/>
  <Override PartName="/ppt/media/camera.wav" ContentType="audio/x-wav"/>
  <Override PartName="/ppt/media/bomb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5AA-D12A-4893-B847-81A1D332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867-1278-4E05-81E1-444243BB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FFE-0643-49B8-A9E3-12EC9EFD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92B-F50B-43FE-8F27-181EE317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4B11-18D9-4CA9-BC12-AA4A4DD6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63E3-AFC8-40A0-AA01-0C1D6CD0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7CCD-DF07-4536-BF53-1A05B8BB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62E2-B6B1-420F-AEAD-99BC5504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A09F-68E0-427F-8C02-AFF9B2DF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60E0-4486-4352-9096-733D77A1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3A3A-AD2F-4277-BD41-21BFD14F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37F-6A3F-46D5-AFDF-8A22E8C4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BCE4-820A-4F12-B651-E0BE985B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B72D-6C3A-46A5-96FB-8AF655F8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FD25-C9CA-4CB7-9272-5F2097BA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0844-45A0-4369-8B82-5DC62883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28D6-F760-4FA9-9F94-E08710AD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1A3-F123-45DE-958F-1640C382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0E9-67A8-4166-8873-B543F610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7459-3172-4F11-8820-2B6DA786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FFA-E442-480C-8B2C-8F43573A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51CF-E094-4785-B3FE-737F83D6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F67-D2D3-4EE5-8AC2-2637F0CB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0D0-C879-48CE-9540-9F216A54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1AFD-BE6A-4DC9-9BFF-F779FF4AEF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631A-493C-479F-8DB7-7C91F19DFB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onsonant Digraph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lling/Phon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2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sonant Digraph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sonant digraphs are two (or three) letters that come together to make one sou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difference between blends and digraphs is that blends are two letters that make two sounds and digraphs make one sou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 /ch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ch /ch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 /sh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 /wh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 /th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  <p:sndAc>
      <p:stSnd>
        <p:snd r:embed="rId1" name="laser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tc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 has the consonant digraph tch which makes the sound /ch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und it ou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 – a –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t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 –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t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105520" y="365760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23920" y="441972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3505320"/>
            <a:ext cx="354240" cy="20772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4191120"/>
            <a:ext cx="353880" cy="20772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657600"/>
            <a:ext cx="1981440" cy="485640"/>
          </a:xfrm>
          <a:prstGeom prst="rightArrow">
            <a:avLst>
              <a:gd name="adj1" fmla="val 50000"/>
              <a:gd name="adj2" fmla="val 10200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495680"/>
            <a:ext cx="1981440" cy="486000"/>
          </a:xfrm>
          <a:prstGeom prst="rightArrow">
            <a:avLst>
              <a:gd name="adj1" fmla="val 50000"/>
              <a:gd name="adj2" fmla="val 10192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257800"/>
            <a:ext cx="1981440" cy="485640"/>
          </a:xfrm>
          <a:prstGeom prst="rightArrow">
            <a:avLst>
              <a:gd name="adj1" fmla="val 50000"/>
              <a:gd name="adj2" fmla="val 10200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drumroll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nd it out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– i – 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 – 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191120"/>
            <a:ext cx="353880" cy="20772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200400"/>
            <a:ext cx="353880" cy="20808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657600"/>
            <a:ext cx="1981440" cy="485640"/>
          </a:xfrm>
          <a:prstGeom prst="rightArrow">
            <a:avLst>
              <a:gd name="adj1" fmla="val 50000"/>
              <a:gd name="adj2" fmla="val 10200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495680"/>
            <a:ext cx="1981440" cy="486000"/>
          </a:xfrm>
          <a:prstGeom prst="rightArrow">
            <a:avLst>
              <a:gd name="adj1" fmla="val 50000"/>
              <a:gd name="adj2" fmla="val 10192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410080"/>
            <a:ext cx="1981080" cy="486000"/>
          </a:xfrm>
          <a:prstGeom prst="rightArrow">
            <a:avLst>
              <a:gd name="adj1" fmla="val 50000"/>
              <a:gd name="adj2" fmla="val 10190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nd it out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n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– i – n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 – n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n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3352680"/>
            <a:ext cx="990720" cy="838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267080"/>
            <a:ext cx="990720" cy="838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78240" y="3213000"/>
            <a:ext cx="354240" cy="20808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4114800"/>
            <a:ext cx="380880" cy="20808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3657600"/>
            <a:ext cx="1981440" cy="485640"/>
          </a:xfrm>
          <a:prstGeom prst="rightArrow">
            <a:avLst>
              <a:gd name="adj1" fmla="val 50000"/>
              <a:gd name="adj2" fmla="val 10200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495680"/>
            <a:ext cx="1981080" cy="486000"/>
          </a:xfrm>
          <a:prstGeom prst="rightArrow">
            <a:avLst>
              <a:gd name="adj1" fmla="val 50000"/>
              <a:gd name="adj2" fmla="val 10190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5486400"/>
            <a:ext cx="1981080" cy="485640"/>
          </a:xfrm>
          <a:prstGeom prst="rightArrow">
            <a:avLst>
              <a:gd name="adj1" fmla="val 50000"/>
              <a:gd name="adj2" fmla="val 10198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nd it out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– a – 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– 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352680"/>
            <a:ext cx="380880" cy="20808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267080"/>
            <a:ext cx="381240" cy="20808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657600"/>
            <a:ext cx="1981440" cy="485640"/>
          </a:xfrm>
          <a:prstGeom prst="rightArrow">
            <a:avLst>
              <a:gd name="adj1" fmla="val 50000"/>
              <a:gd name="adj2" fmla="val 10200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495680"/>
            <a:ext cx="1981080" cy="486000"/>
          </a:xfrm>
          <a:prstGeom prst="rightArrow">
            <a:avLst>
              <a:gd name="adj1" fmla="val 50000"/>
              <a:gd name="adj2" fmla="val 10190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486400"/>
            <a:ext cx="1981080" cy="485640"/>
          </a:xfrm>
          <a:prstGeom prst="rightArrow">
            <a:avLst>
              <a:gd name="adj1" fmla="val 50000"/>
              <a:gd name="adj2" fmla="val 10198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nd it out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i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w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– i – 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w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 – 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i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4114800"/>
            <a:ext cx="380880" cy="20808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200400"/>
            <a:ext cx="380880" cy="208080"/>
          </a:xfrm>
          <a:custGeom>
            <a:avLst/>
            <a:gdLst/>
            <a:ahLst/>
            <a:rect l="l" t="t" r="r" b="b"/>
            <a:pathLst>
              <a:path w="223" h="131">
                <a:moveTo>
                  <a:pt x="10" y="0"/>
                </a:moveTo>
                <a:cubicBezTo>
                  <a:pt x="0" y="40"/>
                  <a:pt x="20" y="70"/>
                  <a:pt x="50" y="95"/>
                </a:cubicBezTo>
                <a:cubicBezTo>
                  <a:pt x="65" y="107"/>
                  <a:pt x="95" y="130"/>
                  <a:pt x="95" y="130"/>
                </a:cubicBezTo>
                <a:cubicBezTo>
                  <a:pt x="118" y="128"/>
                  <a:pt x="142" y="131"/>
                  <a:pt x="165" y="125"/>
                </a:cubicBezTo>
                <a:cubicBezTo>
                  <a:pt x="170" y="124"/>
                  <a:pt x="167" y="114"/>
                  <a:pt x="170" y="110"/>
                </a:cubicBezTo>
                <a:cubicBezTo>
                  <a:pt x="178" y="98"/>
                  <a:pt x="189" y="92"/>
                  <a:pt x="200" y="85"/>
                </a:cubicBezTo>
                <a:cubicBezTo>
                  <a:pt x="223" y="51"/>
                  <a:pt x="220" y="67"/>
                  <a:pt x="220" y="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657600"/>
            <a:ext cx="1981440" cy="485640"/>
          </a:xfrm>
          <a:prstGeom prst="rightArrow">
            <a:avLst>
              <a:gd name="adj1" fmla="val 50000"/>
              <a:gd name="adj2" fmla="val 10200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4495680"/>
            <a:ext cx="1981080" cy="486000"/>
          </a:xfrm>
          <a:prstGeom prst="rightArrow">
            <a:avLst>
              <a:gd name="adj1" fmla="val 50000"/>
              <a:gd name="adj2" fmla="val 10190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5410080"/>
            <a:ext cx="1981080" cy="486000"/>
          </a:xfrm>
          <a:prstGeom prst="rightArrow">
            <a:avLst>
              <a:gd name="adj1" fmla="val 50000"/>
              <a:gd name="adj2" fmla="val 10190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  <p:sndAc>
      <p:stSnd>
        <p:snd r:embed="rId1" name="arrow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rt the Spelling W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c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nc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w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tc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p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wh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t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bomb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rt the Spelling Wor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n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wh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h    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13372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1676520"/>
            <a:ext cx="76320" cy="32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1600200"/>
            <a:ext cx="0" cy="32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1600200"/>
            <a:ext cx="76320" cy="32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16765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57200" y="4876560"/>
            <a:ext cx="82296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0:44:45Z</dcterms:created>
  <dc:creator> </dc:creator>
  <dc:description/>
  <dc:language>en-US</dc:language>
  <cp:lastModifiedBy>dyera</cp:lastModifiedBy>
  <dcterms:modified xsi:type="dcterms:W3CDTF">2007-09-26T15:11:35Z</dcterms:modified>
  <cp:revision>3</cp:revision>
  <dc:subject/>
  <dc:title>Consonant Digraphs</dc:title>
</cp:coreProperties>
</file>